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547-E85A-4FAF-8810-D8AA35B9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CB5-C85E-4B5A-AED1-8FD43B30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89A-620B-4225-91AE-89DDFCD2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818-2F3B-418E-8035-01AA6635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E82-F557-46E0-83AF-4E1438D7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D97-8D08-4674-9077-E3A61CD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F74-580F-46F0-9EC9-008A21F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EA6-AE35-4D0F-98C0-A682A53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173-950A-4CF7-A036-175D9764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4B6-B355-47E1-8BD7-050C76F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DA1-6D36-4A45-AD6E-6CFCDE5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773-4BED-4262-A8AB-8A159B5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EE0-8F4C-4ED1-A3CB-DC15D11A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rio Ragusa, Alex Huynh, Fiona Schmi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/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t of pov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lot of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manufacturing and service indus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greenhouse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600200"/>
          <a:ext cx="4012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12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4T14:15:50Z</dcterms:modified>
  <cp:revision>2</cp:revision>
  <dc:subject/>
  <dc:title>Russia’s Economy</dc:title>
</cp:coreProperties>
</file>